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5F2D-435B-4981-A918-DD26B7F6A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0F30-D9A7-4643-B625-D8853C03B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53CC-DFE4-46DA-B724-77F94B518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7EE1-E98A-4C72-83A5-4605D7AF1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21DF-753B-4E5E-AC2E-03C0499E2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E6D5-57CD-41C2-B804-6997FF2FA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4F35-5CC8-43C8-A141-34106BA0E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1BD2-8EB4-479D-BA34-A404D08CB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03AD-CE8E-4FD5-B826-A718545F7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171E-574C-4D7C-B1AF-3AF75B43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EA29-5933-4A6F-B3B1-EA5AE0F03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7419-9B11-4E1D-9392-F3C11881F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8EC09-8D2D-45A2-83A3-10A73A2FB4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11941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-34920" y="476280"/>
            <a:ext cx="9142560" cy="253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68360" y="2205000"/>
            <a:ext cx="2016000" cy="158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公司简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2205000"/>
            <a:ext cx="5832720" cy="158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滚动几张图（公司环境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公司活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公司最新优惠产品信息等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716360" y="4149720"/>
            <a:ext cx="1366920" cy="1006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滚动产品框参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旁边这种类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25440" y="4079880"/>
            <a:ext cx="4175280" cy="2303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6372360" y="4005360"/>
            <a:ext cx="2409840" cy="26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5832720" cy="3484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805440" y="907920"/>
            <a:ext cx="1800360" cy="266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公司视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先放有广告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以后要做去广告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71640" y="3933720"/>
            <a:ext cx="7088040" cy="2374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971640" y="620640"/>
            <a:ext cx="6818400" cy="2449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413080" y="260280"/>
            <a:ext cx="410364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合作伙伴 我们会加入银行 券商 第三方支付平台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172360" y="1628640"/>
            <a:ext cx="792360" cy="19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漂浮框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联系我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123</dc:creator>
  <dc:description/>
  <dc:language>en-US</dc:language>
  <cp:lastModifiedBy/>
  <dcterms:modified xsi:type="dcterms:W3CDTF">2013-08-13T02:17:2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180</vt:lpwstr>
  </property>
</Properties>
</file>